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A732-B8FD-4221-B1E3-F436FF68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1B69-1F52-4594-B942-CC7777A60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2D4-1451-4588-B6DB-7806B6B0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2EE-D720-4531-BDF3-140966B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61E-EA82-4B5C-817D-9CB162B8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15A-1FD4-4FD6-979F-582B8343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C2E6-8C0C-418A-B884-A4753F3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DBD5-7B06-4961-9638-0C4D4207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FB8-CDD4-4D51-8928-F3D7455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F66-3E42-46C3-A345-F0AD6C1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4D4A-6981-4A22-A14D-A984DBB8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5CB1-0BD5-4E76-BC62-AB846E04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BC0D-89C8-40F7-A50E-EBD943B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AAC-5ACA-4790-B521-56AD7DD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9744-3778-47C1-8BC9-9E8C656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D2F4-7DCB-44C8-B0F1-7E880EB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DC7-E852-4637-B779-D27B780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8F3-3FC6-499C-B847-8FD18BC6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E96D-F234-4FD3-98C9-E7DCD30F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7692-2EC5-4057-A57C-BF8A7968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3365-93BB-4A09-ACFE-41181C33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E2B6-DE67-4962-A896-B6039BC1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200B-99A3-438A-98C0-516DD8BE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CEC4-9C86-4C3B-B037-253EFA70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6DC-DD58-464A-8402-21B212A7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F376-363F-4442-A25A-8C2A9A2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F4A8-6AA0-4FE4-929E-470B435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3942-684C-4A36-8431-0131BD9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1C1A-3ED2-47CF-90CF-0BEB36B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04BC-75D7-4BDB-A2CB-D73C64CD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D4FF-0E05-4E91-9949-88A7C3B8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6870-92A5-449E-9B4A-DED74A5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BF7-0E00-4DF4-A752-0DCAB7B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DFB-16C5-45D3-B651-A45635A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BC7-8BF2-47C6-8BE5-68BAE5D7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1D7-5162-4606-92EE-109AA336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4BB-4874-4B2F-AD67-95D9293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80D-FF37-48EB-BCE6-278ABCC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DD5-2D0B-44D6-8ED7-828EACA9D3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67C-FFBD-4220-AADC-E2B499EBB3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89B-2E54-48D3-91E0-9D360D5E28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B67-AA1F-47AF-8191-BBA8FB429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18AD-E6DF-4952-97B1-CC7E6401E66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0026-DCF3-4B39-A8D8-023C0BFFF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cc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7030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68360" y="2322360"/>
            <a:ext cx="770904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 Diabetes In Pregnan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DISCUSSION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Mastura Is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ant Family Medicine Specia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nik Kesihatan Seremban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Lili Zuryani Marmu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nik Kesihatan Gunung Rap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24844" t="12660" r="40727" b="22364"/>
          <a:stretch/>
        </p:blipFill>
        <p:spPr>
          <a:xfrm>
            <a:off x="9315360" y="2665440"/>
            <a:ext cx="2675160" cy="404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428760" y="1339920"/>
            <a:ext cx="113346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other issues that you need to discuss with the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hieve glycaemic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ate sup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boo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7"/>
          <p:cNvSpPr/>
          <p:nvPr/>
        </p:nvSpPr>
        <p:spPr>
          <a:xfrm>
            <a:off x="220680" y="2860560"/>
            <a:ext cx="8513640" cy="331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7648560" y="382284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76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53D-C7A4-44E0-8E54-9B12CFB3D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7080" y="1509840"/>
          <a:ext cx="11887200" cy="3105000"/>
        </p:xfrm>
        <a:graphic>
          <a:graphicData uri="http://schemas.openxmlformats.org/drawingml/2006/table">
            <a:tbl>
              <a:tblPr/>
              <a:tblGrid>
                <a:gridCol w="11887200"/>
              </a:tblGrid>
              <a:tr h="310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is very keen to get pregnant and willing to go on MDI.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lin treatment was initiated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7030a0"/>
                      </a:solidFill>
                    </a:lnT>
                    <a:lnB w="2808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80D-877F-4677-AF82-64B651649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428760" y="1339920"/>
            <a:ext cx="1133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ould you monitor patient’s glucose leve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re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re- and post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ost-meals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fasting glucos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ounded Rectangle 7"/>
          <p:cNvSpPr/>
          <p:nvPr/>
        </p:nvSpPr>
        <p:spPr>
          <a:xfrm>
            <a:off x="428760" y="3232080"/>
            <a:ext cx="9604080" cy="5907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9437760" y="3262320"/>
            <a:ext cx="30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nswer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5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319-283E-4EBC-985A-03212F9B2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eep HbA1c &lt;6.5% to ensure a good out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t is important to review medications and diabetes com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AD and insulin can be used to achieve good glycaemic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89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8FE-9228-4EE7-91D9-4EDF8BCB8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821-3A39-43B1-A7D3-B3EE9200D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9F8-54F4-45DD-B280-9EC3C0F0C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32920" y="1253880"/>
            <a:ext cx="11633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8 years old l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ried with 3 boys aged 13, 9 and 6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M for past 4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rrently on T. glicazide 160 mg BD, T. metformin 1000 mg BD and T. simvastatin 10 mg 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2200" indent="-528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s to get pregn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0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851B-B67E-471E-856B-6A3EC55C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53880" y="1352520"/>
            <a:ext cx="11588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to predict the pregnancy outcome for this patien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B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bA1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GT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4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E0F-5245-4D41-A9A4-1E95D3BAF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8600" y="1355760"/>
            <a:ext cx="115477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o plan for pregna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i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bA1c &lt;6.5% (48 mmol/mo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if achievable without causing hypoglycaem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bA1c level &gt;10% (86 mmol/mol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01760" indent="-40176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 advised to get pregna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cause of the associated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4038480" y="649764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men with pre-existing diabete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68A-EBA0-4EA9-8914-A3FC72971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09680" y="341280"/>
            <a:ext cx="11225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 1.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Which is the BEST test to predict the pregnancy outcome for this pati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B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bA1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G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7920" y="4278240"/>
          <a:ext cx="12200040" cy="682560"/>
        </p:xfrm>
        <a:graphic>
          <a:graphicData uri="http://schemas.openxmlformats.org/drawingml/2006/table">
            <a:tbl>
              <a:tblPr/>
              <a:tblGrid>
                <a:gridCol w="12200040"/>
              </a:tblGrid>
              <a:tr h="682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4"/>
          <p:cNvSpPr/>
          <p:nvPr/>
        </p:nvSpPr>
        <p:spPr>
          <a:xfrm>
            <a:off x="3619440" y="5294160"/>
            <a:ext cx="4476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.  HbA1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Arial"/>
                <a:ea typeface="Arial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F69F-B77E-464B-A8AC-D137750D2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3880" y="1352520"/>
            <a:ext cx="1158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other assessments to be done before pregnanc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3198960"/>
          <a:ext cx="12200040" cy="761760"/>
        </p:xfrm>
        <a:graphic>
          <a:graphicData uri="http://schemas.openxmlformats.org/drawingml/2006/table">
            <a:tbl>
              <a:tblPr/>
              <a:tblGrid>
                <a:gridCol w="12200040"/>
              </a:tblGrid>
              <a:tr h="761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swer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7"/>
          <p:cNvSpPr/>
          <p:nvPr/>
        </p:nvSpPr>
        <p:spPr>
          <a:xfrm>
            <a:off x="353880" y="4173480"/>
            <a:ext cx="1158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tions 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ssment of diabetes com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E98-DD49-4328-904D-83EC7776E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640" y="579600"/>
          <a:ext cx="12160080" cy="2651040"/>
        </p:xfrm>
        <a:graphic>
          <a:graphicData uri="http://schemas.openxmlformats.org/drawingml/2006/table">
            <a:tbl>
              <a:tblPr/>
              <a:tblGrid>
                <a:gridCol w="6080040"/>
                <a:gridCol w="608004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71680" indent="-398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536400" indent="-363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xamin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allor/jaund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 unremark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680" y="3605040"/>
          <a:ext cx="12160440" cy="914400"/>
        </p:xfrm>
        <a:graphic>
          <a:graphicData uri="http://schemas.openxmlformats.org/drawingml/2006/table">
            <a:tbl>
              <a:tblPr/>
              <a:tblGrid>
                <a:gridCol w="6080040"/>
                <a:gridCol w="6080400"/>
              </a:tblGrid>
              <a:tr h="4575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703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marL="438120" indent="-34272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A1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Slide Number Placeholder 2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0BDD-A9AA-4C7F-9053-D4B587B53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428760" y="1339920"/>
            <a:ext cx="11334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your next step in managing this pati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 her current med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ice on lifestyle mod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asal insul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another O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0520" indent="-2052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 OAD and start M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sp>
        <p:nvSpPr>
          <p:cNvPr id="167" name="Rounded Rectangle 7"/>
          <p:cNvSpPr/>
          <p:nvPr/>
        </p:nvSpPr>
        <p:spPr>
          <a:xfrm>
            <a:off x="184320" y="3048120"/>
            <a:ext cx="8513640" cy="1253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648560" y="382284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sw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184320" y="4876920"/>
            <a:ext cx="8513640" cy="6271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7957-E116-4422-9FD4-3BD58A56E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6:11:03Z</dcterms:created>
  <dc:creator>Norasyikin A Wahab</dc:creator>
  <dc:description/>
  <dc:language>en-US</dc:language>
  <cp:lastModifiedBy>Ainol</cp:lastModifiedBy>
  <dcterms:modified xsi:type="dcterms:W3CDTF">2018-07-19T04:40:30Z</dcterms:modified>
  <cp:revision>108</cp:revision>
  <dc:subject/>
  <dc:title>Case study</dc:title>
</cp:coreProperties>
</file>